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Lucida Sans Unicod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C26C-F280-4BA1-832A-C3A56C44716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adopt an Instructional Strategy that follow the steps of Procedural Learning. The procedures for this course are: conduct safety measures while operating the ambulance, assessing the patient, conducting CPR, and filing an incident re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p we’ll follow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se the situation where a procedure needs to be applied. Recall of the procedure. Here the medical technician needs to recall the information learnt to apply the steps in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appropriate steps. The learner applies what has been taught to make an informed decision of what to do nex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 decision. The learner will need to assess the safety within the ambulance, or the status of the patient, or the steps required for CPR or the steps required to complete the incident report before continu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decision made, the learner will follow a route where the steps of the procedure are complet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come of the process is determined by the learner and/or the instruct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ed be, the learner can go back to the decision making process to make a different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687-7B14-4131-AC78-481D3F8E307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is type of procedural strategy are that the lear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es concept recognition by determining what procedure the situation requir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rative knowledge is accessed when the learner recalls the steps to conduct the procedu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s the necessary steps and makes important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required to analyze the procedure</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BB36-427F-4656-8CB7-EF3F4B19285E}"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87F67-8C42-4432-8C12-77998E3F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79CE-BC94-4193-B17D-F4C26333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E96C9-9DF1-40E3-934A-67F2642DB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75FDC-EC43-44B7-A9F7-58C96357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1525C-AF11-40B5-B866-E95625F10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8021B-B681-400E-8D06-AD2C2E8E8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36AC7-3BDF-4B86-9ED6-D87CD4739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B130A-5CA1-45CC-8C58-DB2C8C0E8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135B2-2A94-4131-B577-7B24EE31B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F143F-24A2-4FC5-81D2-C2E5C9759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05F8D-62E2-419E-8711-FAC6703EB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C9C8-C362-404B-A498-B3E1A32B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3493E-2E8F-4483-A8C8-22F8518E9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B8448-927E-4C6C-BAB9-2B18A7CFD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9E1CD-394D-4FA8-B002-8BA6A64C3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259D4-238E-4846-AFC1-416D008C6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4E0B6-CB18-418D-A258-497DC0464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6900AB-4ADD-4522-9DCE-0C57D7235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1BE091-5E9D-46D9-BA7D-60EC1F534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24B1D9-2748-4585-A288-799F248F8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EB40F-9459-4F79-94C3-EDEFC5783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56287-87ED-4477-B206-073904B55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98FE0-3D5F-42D4-A1D4-1253611AC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FB646-454E-492D-94DB-7DD28967D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81202-46E9-42AA-B0BB-1C01A0EEE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8C968-550F-4931-8787-3F18D48E6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2398B-3F72-4603-8974-86F0609E0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8F74E-C44B-43CA-A9AB-149AF8810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3B12B7-866B-45EA-8A45-BCE3F04B4F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9E735-1260-498D-9BD5-CCE3396B11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160CF-D0BF-435E-ADEA-0AC69A3F7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6DC29-642A-4FC2-A351-FE6D9AFCC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689B8-1C95-4D05-A4B8-2134D020F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442D9-B3E0-4DBB-AF78-BDB6210AE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1A650-908A-4245-B08E-7F80CF657B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5C2F2-EF0C-43EB-9324-26C1A375A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3114B-03EB-4C21-81E8-C2B66B3A6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DFC6F-EFC8-4F70-8086-DD95BF011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7D5C4-774D-407A-8AF0-AAD6392E73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CC105-BE2E-4A39-9E5A-00921086D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9479A-1365-4189-8E26-DE77BC9314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E9267-487A-4E3B-A598-30B5C55832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E368B1-6772-4EA2-8F9B-B60777B43B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69B198-1325-440B-945F-C79025007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15F9-BEE5-493C-A2EF-BFFEE6CA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15DA5-3B6A-4B67-BD72-92D50EAFA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0B287-240B-4488-AE4B-EA444B72D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86923-FC79-41B9-A010-5BC1B669CD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0F2C4A-846B-4C5A-9312-3E16DD4A3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077193-AE91-4498-9436-6DB2D7196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731D7-5E58-4CB4-98F7-D892BC4B2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BD921-2F1E-45FD-8A09-8D82E15CD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44D24-7591-4735-8BC8-CFD720CA3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650C3-4A3C-4EEC-9B48-B38AD2B1B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EA602E-324F-44B0-8FB8-B574130AD0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EF920-F6F3-4781-B9D7-AD8FF4EC9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DC4B4C-1DF7-4944-BC31-9E2D667AC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57FEF9-DD17-4D3C-88DD-DBA9ADCD5B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BC6ACE-41DA-476C-8969-989719410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F0443-A7F6-4940-BF4E-592B537E75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228E1B-A3EA-4C3C-91C7-50C5ED9CB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2680C-6122-4186-85F7-78B30AD32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574678-2824-434D-9B8C-31A6BEC05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B85F2-8FE2-42F9-BB8C-C5F45986D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D3D88-4A9E-47BF-B87F-755AA872C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0C979-7457-44B9-BB9D-A6BFEB7AC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10F71-1D18-44E9-826F-2766CD7ED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1D08A-4A25-4D6C-A41A-34E745ED37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3F45A7-5FB5-45CD-B15B-ECFA42A342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90ED0-5527-42B5-954E-030E5E86E4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2CD02B-5A34-4E33-9A51-5C47DE5364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240E9-E05B-4226-A94F-4F2832B09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E5E6B7-2D7E-407F-B5BF-8665C1C3A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36A8C-FD39-4F4C-B7D8-3CA58922EF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07F7C-B15D-4AD0-8288-C5CB9B47A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03B326-97D3-4FD4-BA2D-E3391F6147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3B7D52-1DA1-4C60-9508-AAB92A39D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7576D-3D22-4411-9F56-96315F47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37542-F765-423D-8B80-1439EA60B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E78E7-C451-44C4-BECC-27C5B64AC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89EA79-34E2-4B06-B943-0DAE74D68D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95AC2-2FFB-4056-A5FC-DE2DA9DA1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5B90C3-F54D-44BA-ACF8-C72AE247E8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4B498-E14C-4AB3-B32F-F9B6029650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411EB-E36C-41F1-94A4-BD4FE6FBC7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AAB8C-F09F-4B8E-B604-85AE94C49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ED690-188D-4723-875B-19CEE0965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7605AD-5652-4344-92C3-ADCFF3AB47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93B57-3BC8-4FCF-91A5-7FAD9A21A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D870F4-1A8A-4303-A38D-D3E713EA7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B7461-4068-4AD7-A41F-76CC0C71A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E5AA1-FCD7-4622-93C1-FE6145E32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07475-BAA7-4D58-9E57-83A450915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6D6DDA-C27B-48D9-9579-F42E5E2778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A389EE-B267-44AC-8F0D-7C7759F75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3CD975-91A9-404F-BFDB-1131AC8AC6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8480" cy="1085760"/>
            <a:chOff x="-6480" y="5791320"/>
            <a:chExt cx="3408480" cy="1085760"/>
          </a:xfrm>
        </p:grpSpPr>
        <p:pic>
          <p:nvPicPr>
            <p:cNvPr id="3" name="Right Triangle 13" descr=""/>
            <p:cNvPicPr/>
            <p:nvPr/>
          </p:nvPicPr>
          <p:blipFill>
            <a:blip r:embed="rId2"/>
            <a:stretch/>
          </p:blipFill>
          <p:spPr>
            <a:xfrm>
              <a:off x="-6480" y="5791320"/>
              <a:ext cx="3408480" cy="108576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2600" y="5778360"/>
            <a:ext cx="3414600" cy="110340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FB01-DA8F-46E3-B896-76B023ECF57D}"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88760" y="4952880"/>
              <a:ext cx="7449480" cy="486720"/>
            </a:xfrm>
            <a:custGeom>
              <a:avLst/>
              <a:gdLst>
                <a:gd name="textAreaLeft" fmla="*/ 0 w 7449480"/>
                <a:gd name="textAreaRight" fmla="*/ 7449840 w 744948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38160" y="5236560"/>
              <a:ext cx="9099720" cy="786240"/>
            </a:xfrm>
            <a:custGeom>
              <a:avLst/>
              <a:gdLst>
                <a:gd name="textAreaLeft" fmla="*/ 0 w 9099720"/>
                <a:gd name="textAreaRight" fmla="*/ 9100080 w 909972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8240"/>
              <a:ext cx="9135360" cy="1866240"/>
              <a:chOff x="2520" y="4998240"/>
              <a:chExt cx="9135360" cy="1866240"/>
            </a:xfrm>
          </p:grpSpPr>
          <p:pic>
            <p:nvPicPr>
              <p:cNvPr id="52" name="Freeform 19" descr=""/>
              <p:cNvPicPr/>
              <p:nvPr/>
            </p:nvPicPr>
            <p:blipFill>
              <a:blip r:embed="rId2"/>
              <a:stretch/>
            </p:blipFill>
            <p:spPr>
              <a:xfrm>
                <a:off x="2520" y="4998240"/>
                <a:ext cx="9135360" cy="1866240"/>
              </a:xfrm>
              <a:prstGeom prst="rect">
                <a:avLst/>
              </a:prstGeom>
              <a:ln w="0">
                <a:noFill/>
              </a:ln>
            </p:spPr>
          </p:pic>
          <p:sp>
            <p:nvSpPr>
              <p:cNvPr id="53" name=""/>
              <p:cNvSpPr/>
              <p:nvPr/>
            </p:nvSpPr>
            <p:spPr>
              <a:xfrm>
                <a:off x="252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DE6A-974D-48E6-B14A-55939F338EF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8480" cy="1085760"/>
            <a:chOff x="-6480" y="5791320"/>
            <a:chExt cx="3408480" cy="1085760"/>
          </a:xfrm>
        </p:grpSpPr>
        <p:pic>
          <p:nvPicPr>
            <p:cNvPr id="99" name="Right Triangle 13" descr=""/>
            <p:cNvPicPr/>
            <p:nvPr/>
          </p:nvPicPr>
          <p:blipFill>
            <a:blip r:embed="rId3"/>
            <a:stretch/>
          </p:blipFill>
          <p:spPr>
            <a:xfrm>
              <a:off x="-6480" y="5791320"/>
              <a:ext cx="3408480" cy="108576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2600" y="5778360"/>
            <a:ext cx="3414600" cy="110340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FACC-2D2C-4838-8C02-D0F4B1884CC5}"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8480" cy="1085760"/>
            <a:chOff x="-6480" y="5791320"/>
            <a:chExt cx="3408480" cy="1085760"/>
          </a:xfrm>
        </p:grpSpPr>
        <p:pic>
          <p:nvPicPr>
            <p:cNvPr id="148" name="Right Triangle 13" descr=""/>
            <p:cNvPicPr/>
            <p:nvPr/>
          </p:nvPicPr>
          <p:blipFill>
            <a:blip r:embed="rId3"/>
            <a:stretch/>
          </p:blipFill>
          <p:spPr>
            <a:xfrm>
              <a:off x="-6480" y="5791320"/>
              <a:ext cx="3408480" cy="108576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2600" y="5778360"/>
            <a:ext cx="3414600" cy="11034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AD0C-32CC-406F-97A0-14C08815C17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6E9F-8A8C-4E8E-90BB-745CFFC1F9A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8480" cy="1085760"/>
            <a:chOff x="-6480" y="5791320"/>
            <a:chExt cx="3408480" cy="1085760"/>
          </a:xfrm>
        </p:grpSpPr>
        <p:pic>
          <p:nvPicPr>
            <p:cNvPr id="236" name="Right Triangle 13" descr=""/>
            <p:cNvPicPr/>
            <p:nvPr/>
          </p:nvPicPr>
          <p:blipFill>
            <a:blip r:embed="rId3"/>
            <a:stretch/>
          </p:blipFill>
          <p:spPr>
            <a:xfrm>
              <a:off x="-6480" y="5791320"/>
              <a:ext cx="3408480" cy="108576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2600" y="5778360"/>
            <a:ext cx="3414600" cy="11034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E613-D47F-430A-9AEA-0A286E7A59D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C0BC-8E68-4047-8EBA-18BC3AA2DD7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8480" cy="1085760"/>
            <a:chOff x="-6480" y="5791320"/>
            <a:chExt cx="3408480" cy="1085760"/>
          </a:xfrm>
        </p:grpSpPr>
        <p:pic>
          <p:nvPicPr>
            <p:cNvPr id="324" name="Right Triangle 16" descr=""/>
            <p:cNvPicPr/>
            <p:nvPr/>
          </p:nvPicPr>
          <p:blipFill>
            <a:blip r:embed="rId3"/>
            <a:stretch/>
          </p:blipFill>
          <p:spPr>
            <a:xfrm>
              <a:off x="-6480" y="5791320"/>
              <a:ext cx="3408480" cy="108576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2600" y="5778360"/>
            <a:ext cx="3414600" cy="110340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2997-ADD9-400F-AB00-9F87A45213E1}"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2" descr=""/>
          <p:cNvPicPr/>
          <p:nvPr/>
        </p:nvPicPr>
        <p:blipFill>
          <a:blip r:embed="rId1"/>
          <a:stretch/>
        </p:blipFill>
        <p:spPr>
          <a:xfrm>
            <a:off x="457200" y="152280"/>
            <a:ext cx="8229600" cy="1146240"/>
          </a:xfrm>
          <a:prstGeom prst="rect">
            <a:avLst/>
          </a:prstGeom>
          <a:ln w="0">
            <a:noFill/>
          </a:ln>
        </p:spPr>
      </p:pic>
      <p:sp>
        <p:nvSpPr>
          <p:cNvPr id="378" name="Process 8"/>
          <p:cNvSpPr/>
          <p:nvPr/>
        </p:nvSpPr>
        <p:spPr>
          <a:xfrm>
            <a:off x="609480" y="11430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recognition</a:t>
            </a:r>
            <a:endParaRPr b="0" lang="en-US" sz="1800" spc="-1" strike="noStrike">
              <a:solidFill>
                <a:srgbClr val="000000"/>
              </a:solidFill>
              <a:latin typeface="Lucida Sans Unicode"/>
            </a:endParaRPr>
          </a:p>
        </p:txBody>
      </p:sp>
      <p:sp>
        <p:nvSpPr>
          <p:cNvPr id="379" name="Process 9"/>
          <p:cNvSpPr/>
          <p:nvPr/>
        </p:nvSpPr>
        <p:spPr>
          <a:xfrm>
            <a:off x="1447920" y="198108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Recall the procedure </a:t>
            </a:r>
            <a:endParaRPr b="0" lang="en-US" sz="1800" spc="-1" strike="noStrike">
              <a:solidFill>
                <a:srgbClr val="000000"/>
              </a:solidFill>
              <a:latin typeface="Lucida Sans Unicode"/>
            </a:endParaRPr>
          </a:p>
        </p:txBody>
      </p:sp>
      <p:sp>
        <p:nvSpPr>
          <p:cNvPr id="380" name="Process 10"/>
          <p:cNvSpPr/>
          <p:nvPr/>
        </p:nvSpPr>
        <p:spPr>
          <a:xfrm>
            <a:off x="2514600" y="2819520"/>
            <a:ext cx="3048120" cy="53316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Apply appropriate steps</a:t>
            </a:r>
            <a:endParaRPr b="0" lang="en-US" sz="1800" spc="-1" strike="noStrike">
              <a:solidFill>
                <a:srgbClr val="000000"/>
              </a:solidFill>
              <a:latin typeface="Lucida Sans Unicode"/>
            </a:endParaRPr>
          </a:p>
        </p:txBody>
      </p:sp>
      <p:sp>
        <p:nvSpPr>
          <p:cNvPr id="381" name="Process 11"/>
          <p:cNvSpPr/>
          <p:nvPr/>
        </p:nvSpPr>
        <p:spPr>
          <a:xfrm>
            <a:off x="3276720" y="3657600"/>
            <a:ext cx="30477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Make a decision</a:t>
            </a:r>
            <a:endParaRPr b="0" lang="en-US" sz="1800" spc="-1" strike="noStrike">
              <a:solidFill>
                <a:srgbClr val="000000"/>
              </a:solidFill>
              <a:latin typeface="Lucida Sans Unicode"/>
            </a:endParaRPr>
          </a:p>
        </p:txBody>
      </p:sp>
      <p:sp>
        <p:nvSpPr>
          <p:cNvPr id="382" name="Process 12"/>
          <p:cNvSpPr/>
          <p:nvPr/>
        </p:nvSpPr>
        <p:spPr>
          <a:xfrm>
            <a:off x="9144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sp>
        <p:nvSpPr>
          <p:cNvPr id="383" name="Process 13"/>
          <p:cNvSpPr/>
          <p:nvPr/>
        </p:nvSpPr>
        <p:spPr>
          <a:xfrm>
            <a:off x="2819520" y="5867280"/>
            <a:ext cx="396216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heck procedure done correctly</a:t>
            </a:r>
            <a:endParaRPr b="0" lang="en-US" sz="1800" spc="-1" strike="noStrike">
              <a:solidFill>
                <a:srgbClr val="000000"/>
              </a:solidFill>
              <a:latin typeface="Lucida Sans Unicode"/>
            </a:endParaRPr>
          </a:p>
        </p:txBody>
      </p:sp>
      <p:sp>
        <p:nvSpPr>
          <p:cNvPr id="384" name="Process 14"/>
          <p:cNvSpPr/>
          <p:nvPr/>
        </p:nvSpPr>
        <p:spPr>
          <a:xfrm>
            <a:off x="5029200" y="4800600"/>
            <a:ext cx="3048120" cy="533520"/>
          </a:xfrm>
          <a:prstGeom prst="flowChartProcess">
            <a:avLst/>
          </a:prstGeom>
          <a:gradFill rotWithShape="0">
            <a:gsLst>
              <a:gs pos="0">
                <a:srgbClr val="2abae3"/>
              </a:gs>
              <a:gs pos="100000">
                <a:srgbClr val="005269"/>
              </a:gs>
            </a:gsLst>
            <a:lin ang="5400000"/>
          </a:gradFill>
          <a:ln w="93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mplete steps</a:t>
            </a:r>
            <a:endParaRPr b="0" lang="en-US" sz="1800" spc="-1" strike="noStrike">
              <a:solidFill>
                <a:srgbClr val="000000"/>
              </a:solidFill>
              <a:latin typeface="Lucida Sans Unicode"/>
            </a:endParaRPr>
          </a:p>
        </p:txBody>
      </p:sp>
      <p:cxnSp>
        <p:nvCxnSpPr>
          <p:cNvPr id="385" name="Elbow Connector 16"/>
          <p:cNvCxnSpPr>
            <a:endCxn id="379" idx="1"/>
          </p:cNvCxnSpPr>
          <p:nvPr/>
        </p:nvCxnSpPr>
        <p:spPr>
          <a:xfrm>
            <a:off x="990720" y="1752480"/>
            <a:ext cx="457560" cy="495720"/>
          </a:xfrm>
          <a:prstGeom prst="bentConnector3">
            <a:avLst>
              <a:gd name="adj1" fmla="val 24724"/>
            </a:avLst>
          </a:prstGeom>
          <a:ln w="55080">
            <a:solidFill>
              <a:srgbClr val="2da2bf"/>
            </a:solidFill>
            <a:miter/>
            <a:tailEnd len="med" type="arrow" w="med"/>
          </a:ln>
        </p:spPr>
      </p:cxnSp>
      <p:cxnSp>
        <p:nvCxnSpPr>
          <p:cNvPr id="386" name="Elbow Connector 17"/>
          <p:cNvCxnSpPr/>
          <p:nvPr/>
        </p:nvCxnSpPr>
        <p:spPr>
          <a:xfrm flipH="1" rot="16200000">
            <a:off x="1962000" y="2609640"/>
            <a:ext cx="496080" cy="457920"/>
          </a:xfrm>
          <a:prstGeom prst="bentConnector2">
            <a:avLst/>
          </a:prstGeom>
          <a:ln w="55080">
            <a:solidFill>
              <a:srgbClr val="2da2bf"/>
            </a:solidFill>
            <a:miter/>
            <a:tailEnd len="med" type="arrow" w="med"/>
          </a:ln>
        </p:spPr>
      </p:cxnSp>
      <p:cxnSp>
        <p:nvCxnSpPr>
          <p:cNvPr id="387" name="Elbow Connector 18"/>
          <p:cNvCxnSpPr/>
          <p:nvPr/>
        </p:nvCxnSpPr>
        <p:spPr>
          <a:xfrm flipH="1" rot="16200000">
            <a:off x="2800440" y="3447720"/>
            <a:ext cx="496080" cy="457920"/>
          </a:xfrm>
          <a:prstGeom prst="bentConnector2">
            <a:avLst/>
          </a:prstGeom>
          <a:ln w="55080">
            <a:solidFill>
              <a:srgbClr val="2da2bf"/>
            </a:solidFill>
            <a:miter/>
            <a:tailEnd len="med" type="arrow" w="med"/>
          </a:ln>
        </p:spPr>
      </p:cxnSp>
      <p:sp>
        <p:nvSpPr>
          <p:cNvPr id="388" name="Straight Connector 20"/>
          <p:cNvSpPr/>
          <p:nvPr/>
        </p:nvSpPr>
        <p:spPr>
          <a:xfrm>
            <a:off x="2362320" y="441972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89" name="Straight Connector 22"/>
          <p:cNvSpPr/>
          <p:nvPr/>
        </p:nvSpPr>
        <p:spPr>
          <a:xfrm>
            <a:off x="4648320" y="4191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0" name="Straight Arrow Connector 29"/>
          <p:cNvCxnSpPr/>
          <p:nvPr/>
        </p:nvCxnSpPr>
        <p:spPr>
          <a:xfrm>
            <a:off x="2387160" y="4419720"/>
            <a:ext cx="1080" cy="305280"/>
          </a:xfrm>
          <a:prstGeom prst="straightConnector1">
            <a:avLst/>
          </a:prstGeom>
          <a:ln w="55080">
            <a:solidFill>
              <a:srgbClr val="2da2bf"/>
            </a:solidFill>
            <a:miter/>
            <a:tailEnd len="med" type="arrow" w="med"/>
          </a:ln>
        </p:spPr>
      </p:cxnSp>
      <p:cxnSp>
        <p:nvCxnSpPr>
          <p:cNvPr id="391" name="Straight Arrow Connector 32"/>
          <p:cNvCxnSpPr/>
          <p:nvPr/>
        </p:nvCxnSpPr>
        <p:spPr>
          <a:xfrm>
            <a:off x="6764040" y="4411800"/>
            <a:ext cx="1080" cy="305280"/>
          </a:xfrm>
          <a:prstGeom prst="straightConnector1">
            <a:avLst/>
          </a:prstGeom>
          <a:ln w="55080">
            <a:solidFill>
              <a:srgbClr val="2da2bf"/>
            </a:solidFill>
            <a:miter/>
            <a:tailEnd len="med" type="arrow" w="med"/>
          </a:ln>
        </p:spPr>
      </p:cxnSp>
      <p:cxnSp>
        <p:nvCxnSpPr>
          <p:cNvPr id="392" name="Straight Arrow Connector 33"/>
          <p:cNvCxnSpPr/>
          <p:nvPr/>
        </p:nvCxnSpPr>
        <p:spPr>
          <a:xfrm>
            <a:off x="4647960" y="5562720"/>
            <a:ext cx="1080" cy="305280"/>
          </a:xfrm>
          <a:prstGeom prst="straightConnector1">
            <a:avLst/>
          </a:prstGeom>
          <a:ln w="55080">
            <a:solidFill>
              <a:srgbClr val="2da2bf"/>
            </a:solidFill>
            <a:miter/>
            <a:tailEnd len="med" type="arrow" w="med"/>
          </a:ln>
        </p:spPr>
      </p:cxnSp>
      <p:sp>
        <p:nvSpPr>
          <p:cNvPr id="393" name="Straight Connector 34"/>
          <p:cNvSpPr/>
          <p:nvPr/>
        </p:nvSpPr>
        <p:spPr>
          <a:xfrm>
            <a:off x="2362320" y="5545080"/>
            <a:ext cx="441936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4" name="Straight Connector 35"/>
          <p:cNvSpPr/>
          <p:nvPr/>
        </p:nvSpPr>
        <p:spPr>
          <a:xfrm>
            <a:off x="236232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5" name="Straight Connector 36"/>
          <p:cNvSpPr/>
          <p:nvPr/>
        </p:nvSpPr>
        <p:spPr>
          <a:xfrm>
            <a:off x="6781680" y="5334120"/>
            <a:ext cx="0" cy="22860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396" name="Picture 47" descr="learn.jpg"/>
          <p:cNvPicPr/>
          <p:nvPr/>
        </p:nvPicPr>
        <p:blipFill>
          <a:blip r:embed="rId2"/>
          <a:stretch/>
        </p:blipFill>
        <p:spPr>
          <a:xfrm>
            <a:off x="5732640" y="1143000"/>
            <a:ext cx="3030480" cy="2133720"/>
          </a:xfrm>
          <a:prstGeom prst="rect">
            <a:avLst/>
          </a:prstGeom>
          <a:ln w="0">
            <a:noFill/>
          </a:ln>
        </p:spPr>
      </p:pic>
      <p:sp>
        <p:nvSpPr>
          <p:cNvPr id="397" name="Straight Connector 62"/>
          <p:cNvSpPr/>
          <p:nvPr/>
        </p:nvSpPr>
        <p:spPr>
          <a:xfrm>
            <a:off x="6781680" y="6172200"/>
            <a:ext cx="1828800" cy="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98" name="Straight Connector 65"/>
          <p:cNvSpPr/>
          <p:nvPr/>
        </p:nvSpPr>
        <p:spPr>
          <a:xfrm>
            <a:off x="8610480" y="3962520"/>
            <a:ext cx="0" cy="2209680"/>
          </a:xfrm>
          <a:prstGeom prst="line">
            <a:avLst/>
          </a:prstGeom>
          <a:ln w="55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399" name="Straight Arrow Connector 68"/>
          <p:cNvCxnSpPr/>
          <p:nvPr/>
        </p:nvCxnSpPr>
        <p:spPr>
          <a:xfrm flipH="1">
            <a:off x="6324120" y="3962160"/>
            <a:ext cx="2286720" cy="1080"/>
          </a:xfrm>
          <a:prstGeom prst="straightConnector1">
            <a:avLst/>
          </a:prstGeom>
          <a:ln w="55080">
            <a:solidFill>
              <a:srgbClr val="2da2b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2" descr=""/>
          <p:cNvPicPr/>
          <p:nvPr/>
        </p:nvPicPr>
        <p:blipFill>
          <a:blip r:embed="rId1"/>
          <a:stretch/>
        </p:blipFill>
        <p:spPr>
          <a:xfrm>
            <a:off x="457200" y="152280"/>
            <a:ext cx="8229600" cy="1146240"/>
          </a:xfrm>
          <a:prstGeom prst="rect">
            <a:avLst/>
          </a:prstGeom>
          <a:ln w="0">
            <a:noFill/>
          </a:ln>
        </p:spPr>
      </p:pic>
      <p:pic>
        <p:nvPicPr>
          <p:cNvPr id="401" name="Picture 1" descr="EMT.jpg"/>
          <p:cNvPicPr/>
          <p:nvPr/>
        </p:nvPicPr>
        <p:blipFill>
          <a:blip r:embed="rId2"/>
          <a:stretch/>
        </p:blipFill>
        <p:spPr>
          <a:xfrm>
            <a:off x="3084480" y="1596960"/>
            <a:ext cx="2859120" cy="3816360"/>
          </a:xfrm>
          <a:prstGeom prst="rect">
            <a:avLst/>
          </a:prstGeom>
          <a:ln w="0">
            <a:noFill/>
          </a:ln>
        </p:spPr>
      </p:pic>
      <p:sp>
        <p:nvSpPr>
          <p:cNvPr id="402" name="Line Callout 1 4"/>
          <p:cNvSpPr/>
          <p:nvPr/>
        </p:nvSpPr>
        <p:spPr>
          <a:xfrm>
            <a:off x="6629400" y="2133720"/>
            <a:ext cx="1752480" cy="1066680"/>
          </a:xfrm>
          <a:prstGeom prst="borderCallout1">
            <a:avLst>
              <a:gd name="adj1" fmla="val 18750"/>
              <a:gd name="adj2" fmla="val -8333"/>
              <a:gd name="adj3" fmla="val 36675"/>
              <a:gd name="adj4" fmla="val -34273"/>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Concept recognition</a:t>
            </a:r>
            <a:endParaRPr b="0" lang="en-US" sz="1800" spc="-1" strike="noStrike">
              <a:solidFill>
                <a:srgbClr val="000000"/>
              </a:solidFill>
              <a:latin typeface="Lucida Sans Unicode"/>
            </a:endParaRPr>
          </a:p>
        </p:txBody>
      </p:sp>
      <p:sp>
        <p:nvSpPr>
          <p:cNvPr id="403" name="Line Callout 1 23"/>
          <p:cNvSpPr/>
          <p:nvPr/>
        </p:nvSpPr>
        <p:spPr>
          <a:xfrm>
            <a:off x="6629400" y="3733920"/>
            <a:ext cx="1905120" cy="1447560"/>
          </a:xfrm>
          <a:prstGeom prst="borderCallout1">
            <a:avLst>
              <a:gd name="adj1" fmla="val 18750"/>
              <a:gd name="adj2" fmla="val -8333"/>
              <a:gd name="adj3" fmla="val 37300"/>
              <a:gd name="adj4" fmla="val -33754"/>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larative knowledge accessed</a:t>
            </a:r>
            <a:endParaRPr b="0" lang="en-US" sz="1800" spc="-1" strike="noStrike">
              <a:solidFill>
                <a:srgbClr val="000000"/>
              </a:solidFill>
              <a:latin typeface="Lucida Sans Unicode"/>
            </a:endParaRPr>
          </a:p>
        </p:txBody>
      </p:sp>
      <p:sp>
        <p:nvSpPr>
          <p:cNvPr id="404" name="Line Callout 1 24"/>
          <p:cNvSpPr/>
          <p:nvPr/>
        </p:nvSpPr>
        <p:spPr>
          <a:xfrm>
            <a:off x="685800" y="2133720"/>
            <a:ext cx="1752480" cy="1066680"/>
          </a:xfrm>
          <a:prstGeom prst="borderCallout1">
            <a:avLst>
              <a:gd name="adj1" fmla="val 18750"/>
              <a:gd name="adj2" fmla="val -8333"/>
              <a:gd name="adj3" fmla="val 48578"/>
              <a:gd name="adj4" fmla="val 133842"/>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Decision making</a:t>
            </a:r>
            <a:endParaRPr b="0" lang="en-US" sz="1800" spc="-1" strike="noStrike">
              <a:solidFill>
                <a:srgbClr val="000000"/>
              </a:solidFill>
              <a:latin typeface="Lucida Sans Unicode"/>
            </a:endParaRPr>
          </a:p>
        </p:txBody>
      </p:sp>
      <p:sp>
        <p:nvSpPr>
          <p:cNvPr id="405" name="Line Callout 1 25"/>
          <p:cNvSpPr/>
          <p:nvPr/>
        </p:nvSpPr>
        <p:spPr>
          <a:xfrm>
            <a:off x="685800" y="3733920"/>
            <a:ext cx="1752480" cy="1066680"/>
          </a:xfrm>
          <a:prstGeom prst="borderCallout1">
            <a:avLst>
              <a:gd name="adj1" fmla="val 18750"/>
              <a:gd name="adj2" fmla="val -8333"/>
              <a:gd name="adj3" fmla="val 48578"/>
              <a:gd name="adj4" fmla="val 133115"/>
            </a:avLst>
          </a:prstGeom>
          <a:gradFill rotWithShape="0">
            <a:gsLst>
              <a:gs pos="0">
                <a:srgbClr val="2abae3"/>
              </a:gs>
              <a:gs pos="100000">
                <a:srgbClr val="005269"/>
              </a:gs>
            </a:gsLst>
            <a:lin ang="5400000"/>
          </a:gradFill>
          <a:ln w="38160">
            <a:solidFill>
              <a:srgbClr val="2da2bf"/>
            </a:solidFill>
            <a:miter/>
          </a:ln>
          <a:effectLst>
            <a:outerShdw dist="3816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Procedure analysi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22:26:02Z</dcterms:created>
  <dc:creator>Valued Acer Customer</dc:creator>
  <dc:description/>
  <dc:language>en-US</dc:language>
  <cp:lastModifiedBy>Jon Salters</cp:lastModifiedBy>
  <dcterms:modified xsi:type="dcterms:W3CDTF">2012-07-05T09:16:27Z</dcterms:modified>
  <cp:revision>37</cp:revision>
  <dc:subject/>
  <dc:title>Emergency  Services</dc:title>
</cp:coreProperties>
</file>