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57E9-91F4-40EA-A0A6-96453099A58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dopt an Instructional Strategy that follow the steps of Procedural Learning. The procedures for this course are: conduct safety measures while operating the ambulance, assessing the patient, conducting CPR, and filing an incident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 we’ll follow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se the situation where a procedure needs to be applied. Recall of the procedure. Here the medical technician needs to recall the information learnt to apply the steps in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appropriate steps. The learner applies what has been taught to make an informed decision of what to do nex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decision. The learner will need to assess the safety within the ambulance, or the status of the patient, or the steps required for CPR or the steps required to complete the incident report before continu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decision made, the learner will follow a route where the steps of the procedure are complet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come of the process is determined by the learner and/or the instruct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ed be, the learner can go back to the decision making process to make a different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BD6C-6F01-4E3D-80BA-1B114A1F103F}"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is type of procedural strategy are that the lear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concept recognition by determining what procedure the situation requir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knowledge is accessed when the learner recalls the steps to conduct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s the necessary steps and makes important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required to analyze the procedure</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3D05-7DA5-429D-839F-A800D49B902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32AC6-4F5A-4347-83D2-78D7DD172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FFFB-5DC0-44D4-9E44-98617CD9C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5934-E6DA-46CB-A7FF-7D8069F51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C6B9E-9E54-46C1-A25D-0EBE62432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36C9B-015D-4EDA-9BB3-8C675A716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24BC6-9552-43FF-93A7-B6DFBE147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74698-8394-4B0C-A581-08D79FAE4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E2126-2828-4D93-9CE6-7234A11D7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0E65D-F8F3-4FD2-9D01-E08B6E706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5C7AD-7506-49BF-AD27-AADEF1963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0911B-A290-4372-AD3F-1FEDD855F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E84A7-47CD-4431-AF69-28630192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DB522-68F9-4D8F-8F67-AF67BFAE4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A2A62-45B8-41E0-B1F3-2C8B8071A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7B52D-BF24-4784-977B-74D17D0D0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42453-8448-4392-B49E-3904F6AEA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43275-0B4C-40E3-9F4E-F6A2D8A8A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2AF45-4E0E-4FD4-9308-BCC17764EB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D5C9CC-805D-4CD3-8AC6-CC74ACC03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94EBE-5D9F-48DA-AA6B-43244ADBF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EA4BA-1C98-4F09-B80C-44E0526BE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7BA38-99D5-4322-A13A-ED32F4163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05CCE-0B2D-4F75-9D9F-05233277F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1F2201-3A7C-4209-902C-BA54A6DFF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EBD44-BF8B-429C-B2D7-FF18DA1C3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9E788-A783-40A4-839C-979C89A58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0EF8E-9FE6-43F1-A4D9-1CB835D80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0A8853-663F-47CF-909C-8D01C60E7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C620F-8F33-4683-B7F2-E49278DCD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76A789-35E2-4AB0-8DA6-8BF13743DA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5C38A5-1DEA-4E69-B439-7741340A5B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6702E-73D6-4CB2-9549-D1CE2C594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07290-2793-43CD-9286-2F0D336D66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7E333-62B8-40B3-922C-1C2A2C209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7F5C6-E906-4CD4-8F3E-4E7E61163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ED099-E124-434F-842C-C74592BB6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53F41-28AA-4BC6-903D-B5CE9F894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0D805-2C69-4B67-BA0F-7003F552B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23066-7E96-4D88-8EDD-6A8022DEA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EDEA8-7B95-427C-9CBB-3FC339613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802F6-C660-47B6-8517-2193CFF32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3F4200-2819-4D20-8D05-F0F3280D12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FB04D-7727-4B8C-AC8D-1C714B968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23D711-4286-45A4-808C-13DD78D55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40736-3ADB-488D-914F-C1B3FD6B0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A50A2-A54E-4819-B088-D80B85EF9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F8C549-FCF7-4B98-BAB2-70D44103B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734B2-480C-4C21-BBE8-F2EEE889B9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0D520-AA59-440F-9DA2-B2D498BBF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BC6F8-89AA-4922-B91A-2B68AD946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15FE7-9084-4457-B555-96592AE40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A0DA4-9B2D-42EA-A74D-921030BD0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05D9F-FEE4-42FA-B5D1-199EDE883A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15A7D-60C3-486A-AF3D-6E30497CA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9FF075-35F0-47DA-AE5E-571A2A23F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030ED-878D-4B0D-8335-804D10B21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6A272B-9F2B-45BA-8951-44CC91783F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E95AEB-2BD5-482E-9C56-2EE46D8C96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F831A-D4EA-41F0-97E3-CA8587AA9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781DE-BFA7-4E34-BCCA-B1F78376EE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34A1A-8C6B-4588-BCCA-D7F5FCEA47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76C33-D65C-4FCB-83DB-973CF3C62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A300A-31DD-4734-9B91-9AC677E8E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FBF871-BC07-4689-925B-F19F32A40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50E7D-229E-4746-ACDB-C112EFEE41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3C282-4999-40F9-B300-45D30B7482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EE579-609B-453F-BC2E-4900CFC88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86A3A-7B03-44D6-B073-620E52C61E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64888C-6A89-4D99-A0E2-0BDCDA8F8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F6C8F4-89B0-49F4-8A4F-D4B9DC1C1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8EF079-BFA6-4353-905C-4E5FE3378D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29E49-D32A-4516-A886-1B6855AD2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27617E-5169-43A4-A5AC-CF7F509C1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EDE89B-DA1F-4E83-BB99-BF850ADD68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698F8F-ACBA-439E-86E2-F31FD5A4A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E27121-08AB-41EB-8918-B813E4268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DFCD2-AB14-43DB-8BEA-3211BE1CE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1E1C-3A5C-434C-8EB3-AB2507B17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BE096-38A6-4E42-A4D6-CCC6AB3F1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A1034-C73B-4CFA-A878-DD9EAF857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894812-6F4C-40CE-AD3B-0361DC28F6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8DF089-F3F9-4910-BBD4-779AAAE9D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E0293-7CD3-4616-9FD8-A08969C05F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850605-66F5-4CC0-A0D8-3F91DE5AFF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60439-BABB-4D75-94BA-2DD8F4E8EF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4C9B95-1F50-4F35-9328-B3C7056862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D822F2-09C5-45F4-BF38-973E885A40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E47317-8F38-4AFC-AFC4-C651BC9EF9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872E-3CE0-4C7F-A92B-1F5739E63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B1457-2BA9-4192-9E54-CC696D296A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C66D7-62FF-4FE3-86E4-4C4C21E06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E8595-FF87-42C7-9D9F-13C3D00F1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A7AAD-3480-4737-9A79-904C08993F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E630E-E9F6-4F0F-B96E-3FF41235F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0B64FA-EC13-4D95-803B-5D71EC8804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BA6281-3EE7-42ED-BA87-17CEFB8A9A7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4311-7638-4C27-94EB-35FADDF8215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BB3A-9287-4089-AC6D-5757263A935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65DC-8806-4CA8-B84E-ADBB75D9EF0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7118-296D-4250-9AA5-1F430875003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CAEE-1745-43E7-B6E8-0C8843C43FC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A2CB-364B-4434-9DCD-95B9FA4FE5F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D75C-31A2-47F8-A062-C3E208EA3B2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281B-74E9-47AF-9AAE-713312DFE11B}"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457200" y="152280"/>
            <a:ext cx="8229600" cy="1146240"/>
          </a:xfrm>
          <a:prstGeom prst="rect">
            <a:avLst/>
          </a:prstGeom>
          <a:ln w="0">
            <a:noFill/>
          </a:ln>
        </p:spPr>
      </p:pic>
      <p:sp>
        <p:nvSpPr>
          <p:cNvPr id="378" name="Process 8"/>
          <p:cNvSpPr/>
          <p:nvPr/>
        </p:nvSpPr>
        <p:spPr>
          <a:xfrm>
            <a:off x="609480" y="11430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recognition</a:t>
            </a:r>
            <a:endParaRPr b="0" lang="en-US" sz="1800" spc="-1" strike="noStrike">
              <a:solidFill>
                <a:srgbClr val="000000"/>
              </a:solidFill>
              <a:latin typeface="Lucida Sans Unicode"/>
            </a:endParaRPr>
          </a:p>
        </p:txBody>
      </p:sp>
      <p:sp>
        <p:nvSpPr>
          <p:cNvPr id="379" name="Process 9"/>
          <p:cNvSpPr/>
          <p:nvPr/>
        </p:nvSpPr>
        <p:spPr>
          <a:xfrm>
            <a:off x="1447920" y="198108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ecall the procedure </a:t>
            </a:r>
            <a:endParaRPr b="0" lang="en-US" sz="1800" spc="-1" strike="noStrike">
              <a:solidFill>
                <a:srgbClr val="000000"/>
              </a:solidFill>
              <a:latin typeface="Lucida Sans Unicode"/>
            </a:endParaRPr>
          </a:p>
        </p:txBody>
      </p:sp>
      <p:sp>
        <p:nvSpPr>
          <p:cNvPr id="380" name="Process 10"/>
          <p:cNvSpPr/>
          <p:nvPr/>
        </p:nvSpPr>
        <p:spPr>
          <a:xfrm>
            <a:off x="2514600" y="2819520"/>
            <a:ext cx="3048120" cy="53316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pply appropriate steps</a:t>
            </a:r>
            <a:endParaRPr b="0" lang="en-US" sz="1800" spc="-1" strike="noStrike">
              <a:solidFill>
                <a:srgbClr val="000000"/>
              </a:solidFill>
              <a:latin typeface="Lucida Sans Unicode"/>
            </a:endParaRPr>
          </a:p>
        </p:txBody>
      </p:sp>
      <p:sp>
        <p:nvSpPr>
          <p:cNvPr id="381" name="Process 11"/>
          <p:cNvSpPr/>
          <p:nvPr/>
        </p:nvSpPr>
        <p:spPr>
          <a:xfrm>
            <a:off x="3276720" y="365760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Make a decision</a:t>
            </a:r>
            <a:endParaRPr b="0" lang="en-US" sz="1800" spc="-1" strike="noStrike">
              <a:solidFill>
                <a:srgbClr val="000000"/>
              </a:solidFill>
              <a:latin typeface="Lucida Sans Unicode"/>
            </a:endParaRPr>
          </a:p>
        </p:txBody>
      </p:sp>
      <p:sp>
        <p:nvSpPr>
          <p:cNvPr id="382" name="Process 12"/>
          <p:cNvSpPr/>
          <p:nvPr/>
        </p:nvSpPr>
        <p:spPr>
          <a:xfrm>
            <a:off x="9144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sp>
        <p:nvSpPr>
          <p:cNvPr id="383" name="Process 13"/>
          <p:cNvSpPr/>
          <p:nvPr/>
        </p:nvSpPr>
        <p:spPr>
          <a:xfrm>
            <a:off x="2819520" y="5867280"/>
            <a:ext cx="39621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heck procedure done correctly</a:t>
            </a:r>
            <a:endParaRPr b="0" lang="en-US" sz="1800" spc="-1" strike="noStrike">
              <a:solidFill>
                <a:srgbClr val="000000"/>
              </a:solidFill>
              <a:latin typeface="Lucida Sans Unicode"/>
            </a:endParaRPr>
          </a:p>
        </p:txBody>
      </p:sp>
      <p:sp>
        <p:nvSpPr>
          <p:cNvPr id="384" name="Process 14"/>
          <p:cNvSpPr/>
          <p:nvPr/>
        </p:nvSpPr>
        <p:spPr>
          <a:xfrm>
            <a:off x="50292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cxnSp>
        <p:nvCxnSpPr>
          <p:cNvPr id="385" name="Elbow Connector 16"/>
          <p:cNvCxnSpPr>
            <a:endCxn id="379" idx="1"/>
          </p:cNvCxnSpPr>
          <p:nvPr/>
        </p:nvCxnSpPr>
        <p:spPr>
          <a:xfrm>
            <a:off x="990720" y="1752480"/>
            <a:ext cx="457560" cy="495720"/>
          </a:xfrm>
          <a:prstGeom prst="bentConnector3">
            <a:avLst>
              <a:gd name="adj1" fmla="val 24724"/>
            </a:avLst>
          </a:prstGeom>
          <a:ln w="55080">
            <a:solidFill>
              <a:srgbClr val="2da2bf"/>
            </a:solidFill>
            <a:miter/>
            <a:tailEnd len="med" type="arrow" w="med"/>
          </a:ln>
        </p:spPr>
      </p:cxnSp>
      <p:cxnSp>
        <p:nvCxnSpPr>
          <p:cNvPr id="386" name="Elbow Connector 17"/>
          <p:cNvCxnSpPr/>
          <p:nvPr/>
        </p:nvCxnSpPr>
        <p:spPr>
          <a:xfrm flipH="1" rot="16200000">
            <a:off x="1962000" y="2609640"/>
            <a:ext cx="496080" cy="457920"/>
          </a:xfrm>
          <a:prstGeom prst="bentConnector2">
            <a:avLst/>
          </a:prstGeom>
          <a:ln w="55080">
            <a:solidFill>
              <a:srgbClr val="2da2bf"/>
            </a:solidFill>
            <a:miter/>
            <a:tailEnd len="med" type="arrow" w="med"/>
          </a:ln>
        </p:spPr>
      </p:cxnSp>
      <p:cxnSp>
        <p:nvCxnSpPr>
          <p:cNvPr id="387" name="Elbow Connector 18"/>
          <p:cNvCxnSpPr/>
          <p:nvPr/>
        </p:nvCxnSpPr>
        <p:spPr>
          <a:xfrm flipH="1" rot="16200000">
            <a:off x="2800440" y="3447720"/>
            <a:ext cx="496080" cy="457920"/>
          </a:xfrm>
          <a:prstGeom prst="bentConnector2">
            <a:avLst/>
          </a:prstGeom>
          <a:ln w="55080">
            <a:solidFill>
              <a:srgbClr val="2da2bf"/>
            </a:solidFill>
            <a:miter/>
            <a:tailEnd len="med" type="arrow" w="med"/>
          </a:ln>
        </p:spPr>
      </p:cxnSp>
      <p:sp>
        <p:nvSpPr>
          <p:cNvPr id="388" name="Straight Connector 20"/>
          <p:cNvSpPr/>
          <p:nvPr/>
        </p:nvSpPr>
        <p:spPr>
          <a:xfrm>
            <a:off x="2362320" y="441972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9" name="Straight Connector 22"/>
          <p:cNvSpPr/>
          <p:nvPr/>
        </p:nvSpPr>
        <p:spPr>
          <a:xfrm>
            <a:off x="4648320" y="4191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0" name="Straight Arrow Connector 29"/>
          <p:cNvCxnSpPr/>
          <p:nvPr/>
        </p:nvCxnSpPr>
        <p:spPr>
          <a:xfrm>
            <a:off x="2387160" y="4419720"/>
            <a:ext cx="1080" cy="305280"/>
          </a:xfrm>
          <a:prstGeom prst="straightConnector1">
            <a:avLst/>
          </a:prstGeom>
          <a:ln w="55080">
            <a:solidFill>
              <a:srgbClr val="2da2bf"/>
            </a:solidFill>
            <a:miter/>
            <a:tailEnd len="med" type="arrow" w="med"/>
          </a:ln>
        </p:spPr>
      </p:cxnSp>
      <p:cxnSp>
        <p:nvCxnSpPr>
          <p:cNvPr id="391" name="Straight Arrow Connector 32"/>
          <p:cNvCxnSpPr/>
          <p:nvPr/>
        </p:nvCxnSpPr>
        <p:spPr>
          <a:xfrm>
            <a:off x="6764040" y="4411800"/>
            <a:ext cx="1080" cy="305280"/>
          </a:xfrm>
          <a:prstGeom prst="straightConnector1">
            <a:avLst/>
          </a:prstGeom>
          <a:ln w="55080">
            <a:solidFill>
              <a:srgbClr val="2da2bf"/>
            </a:solidFill>
            <a:miter/>
            <a:tailEnd len="med" type="arrow" w="med"/>
          </a:ln>
        </p:spPr>
      </p:cxnSp>
      <p:cxnSp>
        <p:nvCxnSpPr>
          <p:cNvPr id="392" name="Straight Arrow Connector 33"/>
          <p:cNvCxnSpPr/>
          <p:nvPr/>
        </p:nvCxnSpPr>
        <p:spPr>
          <a:xfrm>
            <a:off x="4647960" y="5562720"/>
            <a:ext cx="1080" cy="305280"/>
          </a:xfrm>
          <a:prstGeom prst="straightConnector1">
            <a:avLst/>
          </a:prstGeom>
          <a:ln w="55080">
            <a:solidFill>
              <a:srgbClr val="2da2bf"/>
            </a:solidFill>
            <a:miter/>
            <a:tailEnd len="med" type="arrow" w="med"/>
          </a:ln>
        </p:spPr>
      </p:cxnSp>
      <p:sp>
        <p:nvSpPr>
          <p:cNvPr id="393" name="Straight Connector 34"/>
          <p:cNvSpPr/>
          <p:nvPr/>
        </p:nvSpPr>
        <p:spPr>
          <a:xfrm>
            <a:off x="2362320" y="554508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35"/>
          <p:cNvSpPr/>
          <p:nvPr/>
        </p:nvSpPr>
        <p:spPr>
          <a:xfrm>
            <a:off x="236232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36"/>
          <p:cNvSpPr/>
          <p:nvPr/>
        </p:nvSpPr>
        <p:spPr>
          <a:xfrm>
            <a:off x="678168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Picture 47" descr="learn.jpg"/>
          <p:cNvPicPr/>
          <p:nvPr/>
        </p:nvPicPr>
        <p:blipFill>
          <a:blip r:embed="rId2"/>
          <a:stretch/>
        </p:blipFill>
        <p:spPr>
          <a:xfrm>
            <a:off x="5732640" y="1143000"/>
            <a:ext cx="3030480" cy="2133720"/>
          </a:xfrm>
          <a:prstGeom prst="rect">
            <a:avLst/>
          </a:prstGeom>
          <a:ln w="0">
            <a:noFill/>
          </a:ln>
        </p:spPr>
      </p:pic>
      <p:sp>
        <p:nvSpPr>
          <p:cNvPr id="397" name="Straight Connector 62"/>
          <p:cNvSpPr/>
          <p:nvPr/>
        </p:nvSpPr>
        <p:spPr>
          <a:xfrm>
            <a:off x="6781680" y="6172200"/>
            <a:ext cx="182880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8" name="Straight Connector 65"/>
          <p:cNvSpPr/>
          <p:nvPr/>
        </p:nvSpPr>
        <p:spPr>
          <a:xfrm>
            <a:off x="8610480" y="3962520"/>
            <a:ext cx="0" cy="220968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9" name="Straight Arrow Connector 68"/>
          <p:cNvCxnSpPr/>
          <p:nvPr/>
        </p:nvCxnSpPr>
        <p:spPr>
          <a:xfrm flipH="1">
            <a:off x="6324120" y="3962160"/>
            <a:ext cx="2286720" cy="1080"/>
          </a:xfrm>
          <a:prstGeom prst="straightConnector1">
            <a:avLst/>
          </a:prstGeom>
          <a:ln w="5508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7200" y="152280"/>
            <a:ext cx="8229600" cy="1146240"/>
          </a:xfrm>
          <a:prstGeom prst="rect">
            <a:avLst/>
          </a:prstGeom>
          <a:ln w="0">
            <a:noFill/>
          </a:ln>
        </p:spPr>
      </p:pic>
      <p:pic>
        <p:nvPicPr>
          <p:cNvPr id="401" name="Picture 1" descr="EMT.jpg"/>
          <p:cNvPicPr/>
          <p:nvPr/>
        </p:nvPicPr>
        <p:blipFill>
          <a:blip r:embed="rId2"/>
          <a:stretch/>
        </p:blipFill>
        <p:spPr>
          <a:xfrm>
            <a:off x="3084480" y="1596960"/>
            <a:ext cx="2859120" cy="3816360"/>
          </a:xfrm>
          <a:prstGeom prst="rect">
            <a:avLst/>
          </a:prstGeom>
          <a:ln w="0">
            <a:noFill/>
          </a:ln>
        </p:spPr>
      </p:pic>
      <p:sp>
        <p:nvSpPr>
          <p:cNvPr id="402" name="Line Callout 1 4"/>
          <p:cNvSpPr/>
          <p:nvPr/>
        </p:nvSpPr>
        <p:spPr>
          <a:xfrm>
            <a:off x="6629400" y="2133720"/>
            <a:ext cx="1752480" cy="1066680"/>
          </a:xfrm>
          <a:prstGeom prst="borderCallout1">
            <a:avLst>
              <a:gd name="adj1" fmla="val 18750"/>
              <a:gd name="adj2" fmla="val -8333"/>
              <a:gd name="adj3" fmla="val 36675"/>
              <a:gd name="adj4" fmla="val -34273"/>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ncept recognition</a:t>
            </a:r>
            <a:endParaRPr b="0" lang="en-US" sz="1800" spc="-1" strike="noStrike">
              <a:solidFill>
                <a:srgbClr val="000000"/>
              </a:solidFill>
              <a:latin typeface="Lucida Sans Unicode"/>
            </a:endParaRPr>
          </a:p>
        </p:txBody>
      </p:sp>
      <p:sp>
        <p:nvSpPr>
          <p:cNvPr id="403" name="Line Callout 1 23"/>
          <p:cNvSpPr/>
          <p:nvPr/>
        </p:nvSpPr>
        <p:spPr>
          <a:xfrm>
            <a:off x="6629400" y="3733920"/>
            <a:ext cx="1905120" cy="1447560"/>
          </a:xfrm>
          <a:prstGeom prst="borderCallout1">
            <a:avLst>
              <a:gd name="adj1" fmla="val 18750"/>
              <a:gd name="adj2" fmla="val -8333"/>
              <a:gd name="adj3" fmla="val 37300"/>
              <a:gd name="adj4" fmla="val -33754"/>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larative knowledge accessed</a:t>
            </a:r>
            <a:endParaRPr b="0" lang="en-US" sz="1800" spc="-1" strike="noStrike">
              <a:solidFill>
                <a:srgbClr val="000000"/>
              </a:solidFill>
              <a:latin typeface="Lucida Sans Unicode"/>
            </a:endParaRPr>
          </a:p>
        </p:txBody>
      </p:sp>
      <p:sp>
        <p:nvSpPr>
          <p:cNvPr id="404" name="Line Callout 1 24"/>
          <p:cNvSpPr/>
          <p:nvPr/>
        </p:nvSpPr>
        <p:spPr>
          <a:xfrm>
            <a:off x="685800" y="2133720"/>
            <a:ext cx="1752480" cy="1066680"/>
          </a:xfrm>
          <a:prstGeom prst="borderCallout1">
            <a:avLst>
              <a:gd name="adj1" fmla="val 18750"/>
              <a:gd name="adj2" fmla="val -8333"/>
              <a:gd name="adj3" fmla="val 48578"/>
              <a:gd name="adj4" fmla="val 133842"/>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ision making</a:t>
            </a:r>
            <a:endParaRPr b="0" lang="en-US" sz="1800" spc="-1" strike="noStrike">
              <a:solidFill>
                <a:srgbClr val="000000"/>
              </a:solidFill>
              <a:latin typeface="Lucida Sans Unicode"/>
            </a:endParaRPr>
          </a:p>
        </p:txBody>
      </p:sp>
      <p:sp>
        <p:nvSpPr>
          <p:cNvPr id="405" name="Line Callout 1 25"/>
          <p:cNvSpPr/>
          <p:nvPr/>
        </p:nvSpPr>
        <p:spPr>
          <a:xfrm>
            <a:off x="685800" y="3733920"/>
            <a:ext cx="1752480" cy="1066680"/>
          </a:xfrm>
          <a:prstGeom prst="borderCallout1">
            <a:avLst>
              <a:gd name="adj1" fmla="val 18750"/>
              <a:gd name="adj2" fmla="val -8333"/>
              <a:gd name="adj3" fmla="val 48578"/>
              <a:gd name="adj4" fmla="val 133115"/>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analysi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22:26:02Z</dcterms:created>
  <dc:creator>Valued Acer Customer</dc:creator>
  <dc:description/>
  <dc:language>en-US</dc:language>
  <cp:lastModifiedBy>Jon Salters</cp:lastModifiedBy>
  <dcterms:modified xsi:type="dcterms:W3CDTF">2012-07-05T09:16:27Z</dcterms:modified>
  <cp:revision>37</cp:revision>
  <dc:subject/>
  <dc:title>Emergency  Services</dc:title>
</cp:coreProperties>
</file>